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33.wmf" ContentType="image/x-wmf"/>
  <Override PartName="/ppt/media/image35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48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36.wmf" ContentType="image/x-wmf"/>
  <Override PartName="/ppt/media/image4.png" ContentType="image/png"/>
  <Override PartName="/ppt/media/image47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2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19795-1AF5-407B-A51C-F4B7F75B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5AF0C-87F4-43C2-8672-1903430B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3D20C-9D5C-4CDD-937C-426F8879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7446D-C206-4ACE-8E97-39718D70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784B5-9F5F-4359-B625-8537262D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D242C-1635-4AEC-96A8-15659C51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CBB2-3C91-443F-93DC-826F0326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D6F49-5EF7-4358-AB88-6102C112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59454-CD41-4D9A-9046-7EC7AC99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65185-CB15-428D-88C9-066CE733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88C09-FAA9-4AEE-978E-F5A21661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D71C0-D27C-497F-B3B5-3466A3F8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16BA4-B17A-412F-916C-42E3C91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6655B-4719-4919-980A-7D602C36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13636-247B-4917-BDB2-D5D893EE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4D8B9-B6BF-4DA5-91B6-48EE2731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7B4A8-6B0C-4A7C-B3E5-6EC2E88D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4C1A2-9271-4F7F-87D7-5DB6F64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93C9D-B9EB-4454-AA26-279DAFFA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1587E-ABE7-4EDD-98A3-344DE355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370F3-9582-4966-8E15-FAE007B3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B915C-409E-4C0D-B535-9D1B46BC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28745-8C17-4B20-8822-22AB610D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66A21-6FBD-4845-AEA4-E8896F5A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E813D-E29F-413E-83F5-CE3AC3F1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836A6-55B1-4D15-9C63-282C106F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8B492-ED3B-46B9-A7F7-117B8D4F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119AD-21CD-4BA5-BDF0-601BDCF9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49984-67F5-424C-997E-43BB8D31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8F241-4953-4917-8AC4-40832AAA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B9E-4FBD-4BD0-BEA1-254A149D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A7C63-657D-4338-AA90-BD24E767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5F2AC-00CA-4A6F-A2BE-1C38F939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96874-3A7E-41E4-85EE-F17A2BB5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5E76A-F7B3-4FB7-88F4-25D61C08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7EE71-D38E-4542-AB86-D37DF5AB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65656-966D-4A79-ADAE-92950B74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A4534-70F5-4172-993B-36C645D3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CDE73-F3B6-4995-9AE9-7C85EF84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D30BE-7647-4B72-BBB8-CEFB56B0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99126-4F8A-4634-9996-1439A3B3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04C-9F7A-49B2-8450-70211548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3D697-69CC-495B-9592-33CDF4D1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F7C2A-DAC1-4AB7-8C0E-870D345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76810-E1BB-433D-8919-E85B0F45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B704F-6DED-4E1A-B790-8F4DA618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2C9D9-38BB-4FAA-8E48-8700E1BA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1487C-10F7-4E26-A54E-6E3AB2BE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8F12C-D396-4A17-BC24-BC7A38E9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2FD6E-611F-4BA1-BD8A-88D4A600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744D2-803F-470F-8232-A790E461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DB307-01A9-4841-A2F1-8723FA27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B30-BAE3-4702-BFFA-8A5D254F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250A4-9D80-447E-B638-74D89AD4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C6A44-365C-481B-AD97-99FA009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A4EC8-7BAF-4C99-AF1A-0B36F82E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5F371-9CF5-4641-B6E9-9A2D1CCE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6C3D7-DE1B-41FE-9F12-70E3BBE0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38877-8C3C-4B8C-B113-F5D98EC7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28774-1E76-40D0-A559-EDF66030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B61A5-55EE-40D3-B17C-5E933230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F453E-8FEE-463D-AB4D-3D70ADD4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BE9AB-F974-4097-B358-A5F0660F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06A-4846-42A9-A294-9C4A03E6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CFD59-A742-44CA-904B-2255D86B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3262C-10AE-4C5C-9B6E-5A7BD6BE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040CC-C718-466B-9EC4-9D69B129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74A43-D941-4C4E-8695-428187A3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8C978-C6A2-4B07-B904-2DE26EDF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5B310-00B7-4EEF-9780-0E3B1D57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FCD13-5936-4999-8CA3-3B1662C4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DC635-1A4C-4B5A-9C41-EF4DAFC6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F1E37-4807-44CF-B053-0C34FDC7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95AB0-9DDD-4FD7-A281-25378E38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799-002F-4DCF-B122-EB9E0ACD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124DE-37E2-4940-9158-5A7820BB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413DE-8E47-4A5E-A3F5-C88CE50D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310C2-31C2-43CD-9E4D-5D16635D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7959E-AEC5-40A6-9D66-87395A51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65184-D789-448B-B78D-3F1EA90B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617D5-8530-4410-9872-8FA4BDF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CC17E-DEF7-4AC7-8C74-BD810C48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1A85F-01C3-4DE8-ACD9-845B629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F9D18-9ADC-457C-B7BD-A8333233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FD696-8C21-4EAF-97B1-9C973E65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B7C-9650-4F73-B28E-B4A83A5D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4FCE0-D18E-4A4B-8080-02397D05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CAAE3-F059-46F8-AB6C-CBF8CF29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0837B-8F52-4549-AD41-5AB0ADCE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AC4F2-CCAB-4C2A-9F89-629BA96A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5ACE6-3040-4CB1-9741-3B6A9818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11F2B-FEAB-4C3C-8896-989B8C81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2E338-045C-4080-8DF9-7DCA9A87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3B488-5D09-445A-93F1-77BB02F1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BBE2C-9AF3-46A1-A960-F858024D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ED727-F752-47BF-B94A-903CA2D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9AF-030D-4207-B56A-A1DB9F48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E448C-9669-40D2-8FF4-07C7DC8B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43A4D-BD95-4484-83B3-1B6329AB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B8E9B-FDAE-4250-8247-838A67B6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2A553-C0CE-4860-9555-E407C585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9D345-CF6B-4129-B446-C366DD40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B1EC26-7E5E-4F47-B5D4-EB7A7728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0040B1-6AC9-46AC-8572-343F87C8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01E1C-7F1F-4514-989A-2396B8C5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EEAC4C-2BBB-42ED-95CF-880D5DF0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51A3D-D36B-4231-AF79-A7F8D4CF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DD7-7E1B-4422-A44B-B6BD174C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90AEF-FC23-4A0D-A9CF-8A736FF3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EEF83-03D2-484C-84CF-36EECAB2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72E9B-200E-4F29-A73A-6959B713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AB2FF-A521-41E4-B78D-E2F3C016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FB059-FB5D-42CE-B314-E2A40F22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E44199-7165-4572-A5DD-93436ED5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D3A9A-E3FD-4242-82BB-917D4047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00F940-C618-4639-B3E1-D456B7C2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7B8B2-D608-4A9F-BE60-66083102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65400-D0F4-4028-8D51-A8AE1191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737-6A4B-46B2-9BCF-68259D43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643B9-B37D-43C2-B074-C6CC4203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A3E7C-FCAA-441D-AC8D-5D8EE1C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514D4-2DA4-4015-92D7-8D8CA6FA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33905-283A-4039-A603-55F90289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0442D4-E5B0-4A7D-B33E-21BDD126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253F5-8D1A-4D43-BB3C-D5E3EDC0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0E41B-6980-4BF4-8821-29683BD3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614A3-DB5A-41A7-8DB7-EAF1825F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493DB0-4D7F-48AC-B14E-4008B1E0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1D529-B991-4341-BA5A-1F7DB041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F33-F9DF-4B04-AEF6-1F4AEE52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4A12F-C851-465E-8025-2709C4DD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1B1FE-7427-4353-9565-B69E2FB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22506-659B-4D1C-A1F7-2D71F62D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9B4D7-0011-494B-B2E8-26E0962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67A676-C655-4721-9EE9-013BFD75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0855C-7C63-46F3-8D1B-068743B3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2DDBC-28EA-49D3-B1D1-66DA045A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8C423-BD8C-4DCB-9A82-436CA2B6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EC00DB-3147-4F08-9F0D-2AA68096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50E405-48C1-4786-A32A-861A6DFB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B6E-FBFE-4939-BE0B-C52BC942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E249B9-6FED-4F13-B484-3DC812AE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BE4A9C-3FC2-4227-BBF3-68B3090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69FED-345E-4BA4-9929-86FF6DFA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0210C-646D-4FA1-9B5C-2F3CC4FE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5FFC0-CFB7-4D3D-81DF-B8A992D2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CD99E8-1905-4712-8F0C-81C6F90E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EF8B3-6EE8-4468-95E1-5AB20A8C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FADCE-1E97-4343-955B-DC23D51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03B11-0BC3-46F0-B62D-25BE39EE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74A207-92D0-4C10-BF6A-F219896A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722-6B35-476D-99C9-07E25A8D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7A911B-7169-4348-9C63-88C0CBC1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CB5417-AD2C-4EB9-B186-04694A0B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2DE243-5F02-422C-AFB5-0956D060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555DC3-73CE-43FC-B333-A315DA66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0266E-D1E4-4BED-A0D5-98DE8383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9C6C9-75FE-4A88-887F-A6D86119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BA3626-487E-4A55-BEBF-BF55AF80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86993-2915-4A3D-A436-5F79CE80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55542-E938-479C-BB78-14B1589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ECAB1-4281-4ADD-A8B0-FC465A8F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5C36-CD6D-4667-A7A1-54E1BEFE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EA42D-0780-4FE9-B8A6-370806D7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B7670F-1059-4403-9B42-02BFE00B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3A25EF-8A47-475A-9B19-F032D37A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05FBF-9CAB-44F4-AA45-A8F9AD88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69D8C4-AA19-4D26-80E3-E045BBB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3DE4B-713A-45CB-8457-578BF7B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D9FC9-1105-4CE3-A81F-4E708079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2E6DB8-4884-44D5-8CC5-ED95793E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8EDDC-DF92-4CB4-8740-7EDB9C36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59C7CE-2B93-492C-A3AE-10AE4BFC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3EA6-1EF1-4DF5-8D5D-64227B46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23E2AC-AC47-4DDD-BC9A-6F0187EB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4526A-9D7E-410E-862A-F0027AA3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59263-9103-4DC0-98A4-5C921432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DDAE2-1E47-4EC1-976E-79F7A110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7E524-D749-49C2-87F4-2766FBFB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782FA1-30C2-4D32-ADF6-32DAAFED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A8F463-B2C4-4CAD-89AF-39C4761F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0AABC5-1ED8-45DC-8B13-0ABD8D16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238E85-F1E8-4401-8290-A713BD3D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D0A0E5-0D84-4F65-B8B7-82EAB233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4368-F630-493C-A60D-C6927495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FC32AA-9C90-4C3F-97A6-5D967B5A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08B810-59F2-4224-94BF-CE462E45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6F0971-BAB6-436D-9397-EF32F834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792424-EAD2-4A80-990D-C617992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747B7-5701-4006-A653-4BD5E30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1F9A86-C006-4A24-8895-BCA5CFC7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7366F9-6A4F-4C05-8405-5ACA5773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3F1D13-2D5A-4BC5-B9B6-AA42DDC0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C6B3E3-BBA5-429C-A17B-D7587B09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D7EB46-F4E1-4F90-86BB-BFF88130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1385-06E5-4F7E-94DA-5B06BAA5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5884BB-7581-4843-BF89-15066B73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94C2EC-22B3-40F6-8A23-73099D8C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FF3CF4-378B-442E-B2FD-28825E5F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5A29E2-821D-48DB-9AE7-7BDC2BC1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C824B4-4403-4F8D-A95B-CAFC9FBF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B4170E-C4A5-483D-B96F-8C34AAB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2FCC22-7613-4C96-B57A-0876F061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175556-272F-4B16-8538-7724C35A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3749A7-FD56-4EE1-9440-D0DDDD98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589E-FA67-46D9-AC57-79E5AAA3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656D-6009-4336-8A46-AB586ABA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9695-775D-4372-B202-265A7ED8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B0F7-7881-42EA-A68A-CC9A96B8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B2F4-1F98-49F6-A0A6-DD1F59F0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1144-7784-47C1-BAEA-5FB4F134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A616-0EFE-4ABC-A1D2-BB0AD18D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4145-D4B2-4071-ABD0-E706888D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D068-6163-4D86-87CB-06398BBD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3B95A-5295-46D4-B6FF-7825C345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B6C6-0D6A-4FD5-A39F-7D410A42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4980-486B-4B75-9EAE-D4EC7406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24EF-66E8-4570-8563-D838E2D9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D73A-41A5-49EB-A9F5-9A2E9C02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F5B8-AD5B-4497-926B-E53012C5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9DCC-6CB6-4B98-8EAE-59940CA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F1BD-E150-4770-A209-F5146217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C65C-691C-4F22-8078-FB949C7F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4CF2-CFDB-428A-9C06-4A5F4DCD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2B54-1709-43D7-B439-30509315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6C9A2-888E-49BD-BDBE-650FA60B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1A51-6806-4195-BCF2-D47311B5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76B5-61ED-4BD1-AE58-4A29F8DB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DD088-4E33-4408-9C70-C021E60A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C3BD2-1442-4E25-A789-A3C3C4EA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C3467-910A-4A6A-969A-60FABE3B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185F-5BB1-4810-AF86-20E54A69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88DC-A707-4129-A9B2-B7CF63C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F3E0E-A02B-4FAD-B2F1-645EA9C4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90B01-5CF6-41B1-9B97-AFCC8F04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2600-A7AB-4BEE-8713-A90F753D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7368-F3C2-499A-B263-AD115E76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80C10-EF2C-4873-B8F1-FD9BCA89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83EA-EC0B-451C-8EC6-4931C982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498BB-6DAD-484C-B1ED-5291589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24A09-DBF0-44F4-BC57-EB4E5035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86CA9-AF14-4C7E-81A1-55782A99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EABE8-E4AE-46DF-89DB-D0406CB8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8376D-B8B9-436B-A9E8-D14A2F6A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B6C16-7535-4674-B4DB-1DD997E4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7C824-A0DA-4EC7-A7E7-D45DB072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A4538-0099-47C0-93E2-61DFB757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EDF47-8570-4CDF-8F74-F38F9728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C6294-B153-4F67-A616-495CAAC0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A3304-7841-4871-AAFC-59436EB5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278F-F5A3-4747-9BB7-DFE70124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AFD35-3665-40BD-9355-226746EA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06FA0-0ABF-4F3B-8D59-EF9C7721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F201F-9B14-4E56-8D32-69076EA7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94E7C-1ECB-4151-BE10-D75BE28F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A709D-4BB3-4495-8A26-BA74D97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A7054-804F-4AF6-A683-44884A91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498DF-3AD6-4714-8CC9-B29EAB93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74B7-C2DB-4B92-840C-DEC6ADAB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1FDB5-9220-426D-B9E5-B48B63C6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4CA43-5628-4BED-A52B-669C2783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431EF-E350-41A9-9342-BDD4951B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DBE3-91B8-4047-996C-5F1780FC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7BA72-47B1-4944-863D-947142D9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75199-BDAB-4412-800F-07799F6E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80EAC-3557-479A-B6D8-B1697D39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AC580-043C-42DF-A2E7-5B765279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A8079-53A4-40E5-B38A-4D63A1E4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93CE-82AF-4A05-B7D0-667267C9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496B-183B-4B3E-911C-AEA0CD60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0A5B2-19E4-4104-A904-EA5CC28B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22B05-4F9F-450B-8F1B-6EBC7588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76C75-7883-4EA7-9E30-ADE36673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BB80A-7435-4F90-A3F0-05BCAB16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DFE2C-300B-46A3-82B0-340E2B45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E9C91-1173-49B7-AFC9-5451B31E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FF11-F6E6-4A9F-A33A-50C14F64F6E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050F-355D-4C1E-80CB-CCB445E9859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6F0C-5074-4C39-A421-B1208CAF99A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05AD-7CD8-4232-9651-B739EF6CBF6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3E67-8D8E-48A6-B80B-6A97AC0726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CBC1-09FD-4DF1-A260-C4ED0A75A53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31EF-C99B-493F-82CC-1011D193496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B949-0E4A-45C6-BCD9-4876FC2560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4055-B161-4BCF-AB08-5BA39F8D4B9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5154-7845-4BA6-B6B5-396C1510BA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3344-434A-4055-8D49-CA76EC9B754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B1BE-1E15-4EA3-955C-ECA582FAD1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768C-DAC0-4BEF-A1B6-5114963EAC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4E0E-E09C-4FDC-8FA5-3B0D880DE3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C221-34BB-4797-87A3-3EC2A7BB4E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9202-D6DD-43A7-A731-042C079976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0958-F417-42BB-88C0-E1826666702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57D1-3E60-42A9-92AE-8BA6091657C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9DFF-A0C5-4000-A8C2-48C7E242302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371F-B417-49DA-B56A-E88188C2207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876C-898B-4756-80D6-C97A9B613B9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2DD7-5663-48ED-863F-C6603C6954B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B966-918C-4C1A-966D-9A7809A5C6D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203480" y="2103480"/>
            <a:ext cx="6953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数的意义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3780000" y="1574640"/>
            <a:ext cx="45720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校园艺术节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分数的意义和性质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五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948840" y="3675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6" name="组合 14"/>
          <p:cNvGrpSpPr/>
          <p:nvPr/>
        </p:nvGrpSpPr>
        <p:grpSpPr>
          <a:xfrm>
            <a:off x="476280" y="441360"/>
            <a:ext cx="2948040" cy="668160"/>
            <a:chOff x="476280" y="441360"/>
            <a:chExt cx="2948040" cy="668160"/>
          </a:xfrm>
        </p:grpSpPr>
        <p:sp>
          <p:nvSpPr>
            <p:cNvPr id="1077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78" name="组合 16"/>
            <p:cNvGrpSpPr/>
            <p:nvPr/>
          </p:nvGrpSpPr>
          <p:grpSpPr>
            <a:xfrm>
              <a:off x="476280" y="441360"/>
              <a:ext cx="2948040" cy="668160"/>
              <a:chOff x="476280" y="441360"/>
              <a:chExt cx="2948040" cy="668160"/>
            </a:xfrm>
          </p:grpSpPr>
          <p:sp>
            <p:nvSpPr>
              <p:cNvPr id="1079" name="文本框 13"/>
              <p:cNvSpPr/>
              <p:nvPr/>
            </p:nvSpPr>
            <p:spPr>
              <a:xfrm>
                <a:off x="1499040" y="62640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80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1" name="矩形 19"/>
          <p:cNvSpPr/>
          <p:nvPr/>
        </p:nvSpPr>
        <p:spPr>
          <a:xfrm>
            <a:off x="900000" y="168912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下图阴影部分的大长方形、三角形和小长方形各占整个图形的几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82" name="Picture 9" descr=""/>
          <p:cNvPicPr/>
          <p:nvPr/>
        </p:nvPicPr>
        <p:blipFill>
          <a:blip r:embed="rId2"/>
          <a:stretch/>
        </p:blipFill>
        <p:spPr>
          <a:xfrm>
            <a:off x="3214800" y="2828880"/>
            <a:ext cx="2600280" cy="1886040"/>
          </a:xfrm>
          <a:prstGeom prst="rect">
            <a:avLst/>
          </a:prstGeom>
          <a:ln w="0">
            <a:noFill/>
          </a:ln>
        </p:spPr>
      </p:pic>
      <p:grpSp>
        <p:nvGrpSpPr>
          <p:cNvPr id="1083" name="组合 6"/>
          <p:cNvGrpSpPr/>
          <p:nvPr/>
        </p:nvGrpSpPr>
        <p:grpSpPr>
          <a:xfrm>
            <a:off x="1457280" y="4768920"/>
            <a:ext cx="6624720" cy="1360440"/>
            <a:chOff x="1457280" y="4768920"/>
            <a:chExt cx="6624720" cy="1360440"/>
          </a:xfrm>
        </p:grpSpPr>
        <p:sp>
          <p:nvSpPr>
            <p:cNvPr id="1084" name="矩形 2"/>
            <p:cNvSpPr/>
            <p:nvPr/>
          </p:nvSpPr>
          <p:spPr>
            <a:xfrm>
              <a:off x="1457280" y="4843440"/>
              <a:ext cx="662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7120" indent="-6271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大长方形占整个图形的       ，三角形占整个图形的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，小长方形占整个图形的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85" name="对象 3" descr=""/>
            <p:cNvPicPr/>
            <p:nvPr/>
          </p:nvPicPr>
          <p:blipFill>
            <a:blip r:embed="rId3"/>
            <a:stretch/>
          </p:blipFill>
          <p:spPr>
            <a:xfrm>
              <a:off x="5329800" y="4768920"/>
              <a:ext cx="26964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对象 4" descr=""/>
            <p:cNvPicPr/>
            <p:nvPr/>
          </p:nvPicPr>
          <p:blipFill>
            <a:blip r:embed="rId4"/>
            <a:stretch/>
          </p:blipFill>
          <p:spPr>
            <a:xfrm>
              <a:off x="3194640" y="5321160"/>
              <a:ext cx="26964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对象 5" descr=""/>
            <p:cNvPicPr/>
            <p:nvPr/>
          </p:nvPicPr>
          <p:blipFill>
            <a:blip r:embed="rId5"/>
            <a:stretch/>
          </p:blipFill>
          <p:spPr>
            <a:xfrm>
              <a:off x="6948360" y="5314320"/>
              <a:ext cx="415800" cy="808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6553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用图形表示分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形结合思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应用分数的意义解决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1436760" y="1465200"/>
            <a:ext cx="721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动手操作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一个分数，在图中圈一圈，表示出来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4" name="对象 6" descr=""/>
          <p:cNvPicPr/>
          <p:nvPr/>
        </p:nvPicPr>
        <p:blipFill>
          <a:blip r:embed="rId2"/>
          <a:stretch/>
        </p:blipFill>
        <p:spPr>
          <a:xfrm>
            <a:off x="2819520" y="3014640"/>
            <a:ext cx="323640" cy="890640"/>
          </a:xfrm>
          <a:prstGeom prst="rect">
            <a:avLst/>
          </a:prstGeom>
          <a:ln w="0">
            <a:noFill/>
          </a:ln>
        </p:spPr>
      </p:pic>
      <p:pic>
        <p:nvPicPr>
          <p:cNvPr id="1005" name="对象 7" descr=""/>
          <p:cNvPicPr/>
          <p:nvPr/>
        </p:nvPicPr>
        <p:blipFill>
          <a:blip r:embed="rId3"/>
          <a:stretch/>
        </p:blipFill>
        <p:spPr>
          <a:xfrm>
            <a:off x="3440160" y="3014640"/>
            <a:ext cx="325440" cy="892080"/>
          </a:xfrm>
          <a:prstGeom prst="rect">
            <a:avLst/>
          </a:prstGeom>
          <a:ln w="0">
            <a:noFill/>
          </a:ln>
        </p:spPr>
      </p:pic>
      <p:pic>
        <p:nvPicPr>
          <p:cNvPr id="1006" name="对象 8" descr=""/>
          <p:cNvPicPr/>
          <p:nvPr/>
        </p:nvPicPr>
        <p:blipFill>
          <a:blip r:embed="rId4"/>
          <a:stretch/>
        </p:blipFill>
        <p:spPr>
          <a:xfrm>
            <a:off x="4702320" y="3002040"/>
            <a:ext cx="325440" cy="892080"/>
          </a:xfrm>
          <a:prstGeom prst="rect">
            <a:avLst/>
          </a:prstGeom>
          <a:ln w="0">
            <a:noFill/>
          </a:ln>
        </p:spPr>
      </p:pic>
      <p:pic>
        <p:nvPicPr>
          <p:cNvPr id="1007" name="对象 9" descr=""/>
          <p:cNvPicPr/>
          <p:nvPr/>
        </p:nvPicPr>
        <p:blipFill>
          <a:blip r:embed="rId5"/>
          <a:stretch/>
        </p:blipFill>
        <p:spPr>
          <a:xfrm>
            <a:off x="4079880" y="3002040"/>
            <a:ext cx="325440" cy="892080"/>
          </a:xfrm>
          <a:prstGeom prst="rect">
            <a:avLst/>
          </a:prstGeom>
          <a:ln w="0">
            <a:noFill/>
          </a:ln>
        </p:spPr>
      </p:pic>
      <p:pic>
        <p:nvPicPr>
          <p:cNvPr id="1008" name="对象 11" descr=""/>
          <p:cNvPicPr/>
          <p:nvPr/>
        </p:nvPicPr>
        <p:blipFill>
          <a:blip r:embed="rId6"/>
          <a:stretch/>
        </p:blipFill>
        <p:spPr>
          <a:xfrm>
            <a:off x="5254560" y="2997360"/>
            <a:ext cx="459000" cy="8920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22" descr="N10"/>
          <p:cNvPicPr/>
          <p:nvPr/>
        </p:nvPicPr>
        <p:blipFill>
          <a:blip r:embed="rId7"/>
          <a:stretch/>
        </p:blipFill>
        <p:spPr>
          <a:xfrm>
            <a:off x="2260440" y="4211640"/>
            <a:ext cx="4111920" cy="1584360"/>
          </a:xfrm>
          <a:prstGeom prst="rect">
            <a:avLst/>
          </a:prstGeom>
          <a:ln w="0">
            <a:noFill/>
          </a:ln>
        </p:spPr>
      </p:pic>
      <p:sp>
        <p:nvSpPr>
          <p:cNvPr id="1010" name="椭圆 1"/>
          <p:cNvSpPr/>
          <p:nvPr/>
        </p:nvSpPr>
        <p:spPr>
          <a:xfrm>
            <a:off x="2705040" y="3073320"/>
            <a:ext cx="576360" cy="8272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1" name="椭圆 14"/>
          <p:cNvSpPr/>
          <p:nvPr/>
        </p:nvSpPr>
        <p:spPr>
          <a:xfrm>
            <a:off x="2244600" y="4292640"/>
            <a:ext cx="2152800" cy="12603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10"/>
          <p:cNvSpPr/>
          <p:nvPr/>
        </p:nvSpPr>
        <p:spPr>
          <a:xfrm>
            <a:off x="1025640" y="217332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别画出下面各图形的     ，它们的大小一样吗？为什么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3" name="对象 6" descr=""/>
          <p:cNvPicPr/>
          <p:nvPr/>
        </p:nvPicPr>
        <p:blipFill>
          <a:blip r:embed="rId1"/>
          <a:stretch/>
        </p:blipFill>
        <p:spPr>
          <a:xfrm>
            <a:off x="4608360" y="2114640"/>
            <a:ext cx="281160" cy="7747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2" descr="N11"/>
          <p:cNvPicPr/>
          <p:nvPr/>
        </p:nvPicPr>
        <p:blipFill>
          <a:blip r:embed="rId2"/>
          <a:stretch/>
        </p:blipFill>
        <p:spPr>
          <a:xfrm>
            <a:off x="2997360" y="3384720"/>
            <a:ext cx="3122280" cy="988920"/>
          </a:xfrm>
          <a:prstGeom prst="rect">
            <a:avLst/>
          </a:prstGeom>
          <a:ln w="0">
            <a:noFill/>
          </a:ln>
        </p:spPr>
      </p:pic>
      <p:sp>
        <p:nvSpPr>
          <p:cNvPr id="1015" name="直角三角形 2"/>
          <p:cNvSpPr/>
          <p:nvPr/>
        </p:nvSpPr>
        <p:spPr>
          <a:xfrm flipH="1" flipV="1">
            <a:off x="2986920" y="3404520"/>
            <a:ext cx="965160" cy="86508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6" name="矩形 3"/>
          <p:cNvSpPr/>
          <p:nvPr/>
        </p:nvSpPr>
        <p:spPr>
          <a:xfrm>
            <a:off x="4570560" y="3394080"/>
            <a:ext cx="1488960" cy="45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7" name="矩形 4"/>
          <p:cNvSpPr/>
          <p:nvPr/>
        </p:nvSpPr>
        <p:spPr>
          <a:xfrm>
            <a:off x="3941280" y="48355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它们的大小不一样。因为单位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相同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矩形 10"/>
          <p:cNvSpPr/>
          <p:nvPr/>
        </p:nvSpPr>
        <p:spPr>
          <a:xfrm>
            <a:off x="1030320" y="1558800"/>
            <a:ext cx="72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直线上的点表示下面各分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61800" indent="-3618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61800" indent="-3618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61800" indent="-3618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9" name="对象 2" descr=""/>
          <p:cNvPicPr/>
          <p:nvPr/>
        </p:nvPicPr>
        <p:blipFill>
          <a:blip r:embed="rId1"/>
          <a:stretch/>
        </p:blipFill>
        <p:spPr>
          <a:xfrm>
            <a:off x="1714680" y="2203560"/>
            <a:ext cx="291960" cy="806400"/>
          </a:xfrm>
          <a:prstGeom prst="rect">
            <a:avLst/>
          </a:prstGeom>
          <a:ln w="0">
            <a:noFill/>
          </a:ln>
        </p:spPr>
      </p:pic>
      <p:pic>
        <p:nvPicPr>
          <p:cNvPr id="1020" name="对象 3" descr=""/>
          <p:cNvPicPr/>
          <p:nvPr/>
        </p:nvPicPr>
        <p:blipFill>
          <a:blip r:embed="rId2"/>
          <a:stretch/>
        </p:blipFill>
        <p:spPr>
          <a:xfrm>
            <a:off x="2335320" y="2203560"/>
            <a:ext cx="293760" cy="807840"/>
          </a:xfrm>
          <a:prstGeom prst="rect">
            <a:avLst/>
          </a:prstGeom>
          <a:ln w="0">
            <a:noFill/>
          </a:ln>
        </p:spPr>
      </p:pic>
      <p:pic>
        <p:nvPicPr>
          <p:cNvPr id="1021" name="对象 4" descr=""/>
          <p:cNvPicPr/>
          <p:nvPr/>
        </p:nvPicPr>
        <p:blipFill>
          <a:blip r:embed="rId3"/>
          <a:stretch/>
        </p:blipFill>
        <p:spPr>
          <a:xfrm>
            <a:off x="3597120" y="2190600"/>
            <a:ext cx="293760" cy="808200"/>
          </a:xfrm>
          <a:prstGeom prst="rect">
            <a:avLst/>
          </a:prstGeom>
          <a:ln w="0">
            <a:noFill/>
          </a:ln>
        </p:spPr>
      </p:pic>
      <p:pic>
        <p:nvPicPr>
          <p:cNvPr id="1022" name="对象 5" descr=""/>
          <p:cNvPicPr/>
          <p:nvPr/>
        </p:nvPicPr>
        <p:blipFill>
          <a:blip r:embed="rId4"/>
          <a:stretch/>
        </p:blipFill>
        <p:spPr>
          <a:xfrm>
            <a:off x="2975040" y="2190600"/>
            <a:ext cx="293760" cy="808200"/>
          </a:xfrm>
          <a:prstGeom prst="rect">
            <a:avLst/>
          </a:prstGeom>
          <a:ln w="0">
            <a:noFill/>
          </a:ln>
        </p:spPr>
      </p:pic>
      <p:pic>
        <p:nvPicPr>
          <p:cNvPr id="1023" name="对象 7" descr=""/>
          <p:cNvPicPr/>
          <p:nvPr/>
        </p:nvPicPr>
        <p:blipFill>
          <a:blip r:embed="rId5"/>
          <a:stretch/>
        </p:blipFill>
        <p:spPr>
          <a:xfrm>
            <a:off x="4210200" y="2185920"/>
            <a:ext cx="291960" cy="8082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7" descr="E60"/>
          <p:cNvPicPr/>
          <p:nvPr/>
        </p:nvPicPr>
        <p:blipFill>
          <a:blip r:embed="rId6"/>
          <a:stretch/>
        </p:blipFill>
        <p:spPr>
          <a:xfrm>
            <a:off x="1630440" y="4554360"/>
            <a:ext cx="5786280" cy="459000"/>
          </a:xfrm>
          <a:prstGeom prst="rect">
            <a:avLst/>
          </a:prstGeom>
          <a:ln w="0">
            <a:noFill/>
          </a:ln>
        </p:spPr>
      </p:pic>
      <p:pic>
        <p:nvPicPr>
          <p:cNvPr id="1025" name="对象 1" descr=""/>
          <p:cNvPicPr/>
          <p:nvPr/>
        </p:nvPicPr>
        <p:blipFill>
          <a:blip r:embed="rId7"/>
          <a:stretch/>
        </p:blipFill>
        <p:spPr>
          <a:xfrm>
            <a:off x="2892600" y="3624120"/>
            <a:ext cx="268200" cy="808200"/>
          </a:xfrm>
          <a:prstGeom prst="rect">
            <a:avLst/>
          </a:prstGeom>
          <a:ln w="0">
            <a:noFill/>
          </a:ln>
        </p:spPr>
      </p:pic>
      <p:pic>
        <p:nvPicPr>
          <p:cNvPr id="1026" name="对象 2" descr=""/>
          <p:cNvPicPr/>
          <p:nvPr/>
        </p:nvPicPr>
        <p:blipFill>
          <a:blip r:embed="rId8"/>
          <a:stretch/>
        </p:blipFill>
        <p:spPr>
          <a:xfrm>
            <a:off x="3373560" y="3630600"/>
            <a:ext cx="293400" cy="808200"/>
          </a:xfrm>
          <a:prstGeom prst="rect">
            <a:avLst/>
          </a:prstGeom>
          <a:ln w="0">
            <a:noFill/>
          </a:ln>
        </p:spPr>
      </p:pic>
      <p:pic>
        <p:nvPicPr>
          <p:cNvPr id="1027" name="对象 3" descr=""/>
          <p:cNvPicPr/>
          <p:nvPr/>
        </p:nvPicPr>
        <p:blipFill>
          <a:blip r:embed="rId9"/>
          <a:stretch/>
        </p:blipFill>
        <p:spPr>
          <a:xfrm>
            <a:off x="3884760" y="3625920"/>
            <a:ext cx="291960" cy="806400"/>
          </a:xfrm>
          <a:prstGeom prst="rect">
            <a:avLst/>
          </a:prstGeom>
          <a:ln w="0">
            <a:noFill/>
          </a:ln>
        </p:spPr>
      </p:pic>
      <p:pic>
        <p:nvPicPr>
          <p:cNvPr id="1028" name="对象 4" descr=""/>
          <p:cNvPicPr/>
          <p:nvPr/>
        </p:nvPicPr>
        <p:blipFill>
          <a:blip r:embed="rId10"/>
          <a:stretch/>
        </p:blipFill>
        <p:spPr>
          <a:xfrm>
            <a:off x="4381560" y="3630600"/>
            <a:ext cx="266760" cy="808200"/>
          </a:xfrm>
          <a:prstGeom prst="rect">
            <a:avLst/>
          </a:prstGeom>
          <a:ln w="0">
            <a:noFill/>
          </a:ln>
        </p:spPr>
      </p:pic>
      <p:pic>
        <p:nvPicPr>
          <p:cNvPr id="1029" name="对象 5" descr=""/>
          <p:cNvPicPr/>
          <p:nvPr/>
        </p:nvPicPr>
        <p:blipFill>
          <a:blip r:embed="rId11"/>
          <a:stretch/>
        </p:blipFill>
        <p:spPr>
          <a:xfrm>
            <a:off x="5381640" y="3630600"/>
            <a:ext cx="293760" cy="808200"/>
          </a:xfrm>
          <a:prstGeom prst="rect">
            <a:avLst/>
          </a:prstGeom>
          <a:ln w="0">
            <a:noFill/>
          </a:ln>
        </p:spPr>
      </p:pic>
      <p:sp>
        <p:nvSpPr>
          <p:cNvPr id="1030" name="矩形 19"/>
          <p:cNvSpPr/>
          <p:nvPr/>
        </p:nvSpPr>
        <p:spPr>
          <a:xfrm>
            <a:off x="2847960" y="44146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1" name="矩形 20"/>
          <p:cNvSpPr/>
          <p:nvPr/>
        </p:nvSpPr>
        <p:spPr>
          <a:xfrm>
            <a:off x="3363840" y="4414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2" name="矩形 21"/>
          <p:cNvSpPr/>
          <p:nvPr/>
        </p:nvSpPr>
        <p:spPr>
          <a:xfrm>
            <a:off x="3825720" y="4416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3" name="矩形 22"/>
          <p:cNvSpPr/>
          <p:nvPr/>
        </p:nvSpPr>
        <p:spPr>
          <a:xfrm>
            <a:off x="4356000" y="44164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4" name="矩形 23"/>
          <p:cNvSpPr/>
          <p:nvPr/>
        </p:nvSpPr>
        <p:spPr>
          <a:xfrm>
            <a:off x="5327640" y="44226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矩形 10"/>
          <p:cNvSpPr/>
          <p:nvPr/>
        </p:nvSpPr>
        <p:spPr>
          <a:xfrm>
            <a:off x="863640" y="180828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6" name="对象 8" descr=""/>
          <p:cNvPicPr/>
          <p:nvPr/>
        </p:nvPicPr>
        <p:blipFill>
          <a:blip r:embed="rId1"/>
          <a:stretch/>
        </p:blipFill>
        <p:spPr>
          <a:xfrm>
            <a:off x="1755720" y="2077920"/>
            <a:ext cx="293760" cy="806400"/>
          </a:xfrm>
          <a:prstGeom prst="rect">
            <a:avLst/>
          </a:prstGeom>
          <a:ln w="0">
            <a:noFill/>
          </a:ln>
        </p:spPr>
      </p:pic>
      <p:pic>
        <p:nvPicPr>
          <p:cNvPr id="1037" name="对象 9" descr=""/>
          <p:cNvPicPr/>
          <p:nvPr/>
        </p:nvPicPr>
        <p:blipFill>
          <a:blip r:embed="rId2"/>
          <a:stretch/>
        </p:blipFill>
        <p:spPr>
          <a:xfrm>
            <a:off x="2376360" y="2077920"/>
            <a:ext cx="293760" cy="808200"/>
          </a:xfrm>
          <a:prstGeom prst="rect">
            <a:avLst/>
          </a:prstGeom>
          <a:ln w="0">
            <a:noFill/>
          </a:ln>
        </p:spPr>
      </p:pic>
      <p:pic>
        <p:nvPicPr>
          <p:cNvPr id="1038" name="对象 10" descr=""/>
          <p:cNvPicPr/>
          <p:nvPr/>
        </p:nvPicPr>
        <p:blipFill>
          <a:blip r:embed="rId3"/>
          <a:stretch/>
        </p:blipFill>
        <p:spPr>
          <a:xfrm>
            <a:off x="3638520" y="2065320"/>
            <a:ext cx="293760" cy="808200"/>
          </a:xfrm>
          <a:prstGeom prst="rect">
            <a:avLst/>
          </a:prstGeom>
          <a:ln w="0">
            <a:noFill/>
          </a:ln>
        </p:spPr>
      </p:pic>
      <p:pic>
        <p:nvPicPr>
          <p:cNvPr id="1039" name="对象 11" descr=""/>
          <p:cNvPicPr/>
          <p:nvPr/>
        </p:nvPicPr>
        <p:blipFill>
          <a:blip r:embed="rId4"/>
          <a:stretch/>
        </p:blipFill>
        <p:spPr>
          <a:xfrm>
            <a:off x="3016080" y="2065320"/>
            <a:ext cx="293760" cy="808200"/>
          </a:xfrm>
          <a:prstGeom prst="rect">
            <a:avLst/>
          </a:prstGeom>
          <a:ln w="0">
            <a:noFill/>
          </a:ln>
        </p:spPr>
      </p:pic>
      <p:pic>
        <p:nvPicPr>
          <p:cNvPr id="1040" name="对象 12" descr=""/>
          <p:cNvPicPr/>
          <p:nvPr/>
        </p:nvPicPr>
        <p:blipFill>
          <a:blip r:embed="rId5"/>
          <a:stretch/>
        </p:blipFill>
        <p:spPr>
          <a:xfrm>
            <a:off x="4191120" y="2060640"/>
            <a:ext cx="412560" cy="80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8" descr="E61"/>
          <p:cNvPicPr/>
          <p:nvPr/>
        </p:nvPicPr>
        <p:blipFill>
          <a:blip r:embed="rId6"/>
          <a:stretch/>
        </p:blipFill>
        <p:spPr>
          <a:xfrm>
            <a:off x="1517760" y="4295880"/>
            <a:ext cx="6572160" cy="501480"/>
          </a:xfrm>
          <a:prstGeom prst="rect">
            <a:avLst/>
          </a:prstGeom>
          <a:ln w="0">
            <a:noFill/>
          </a:ln>
        </p:spPr>
      </p:pic>
      <p:pic>
        <p:nvPicPr>
          <p:cNvPr id="1042" name="对象 1" descr=""/>
          <p:cNvPicPr/>
          <p:nvPr/>
        </p:nvPicPr>
        <p:blipFill>
          <a:blip r:embed="rId7"/>
          <a:stretch/>
        </p:blipFill>
        <p:spPr>
          <a:xfrm>
            <a:off x="2674800" y="3335400"/>
            <a:ext cx="270000" cy="807840"/>
          </a:xfrm>
          <a:prstGeom prst="rect">
            <a:avLst/>
          </a:prstGeom>
          <a:ln w="0">
            <a:noFill/>
          </a:ln>
        </p:spPr>
      </p:pic>
      <p:pic>
        <p:nvPicPr>
          <p:cNvPr id="1043" name="对象 2" descr=""/>
          <p:cNvPicPr/>
          <p:nvPr/>
        </p:nvPicPr>
        <p:blipFill>
          <a:blip r:embed="rId8"/>
          <a:stretch/>
        </p:blipFill>
        <p:spPr>
          <a:xfrm>
            <a:off x="3578400" y="3338640"/>
            <a:ext cx="293400" cy="806400"/>
          </a:xfrm>
          <a:prstGeom prst="rect">
            <a:avLst/>
          </a:prstGeom>
          <a:ln w="0">
            <a:noFill/>
          </a:ln>
        </p:spPr>
      </p:pic>
      <p:pic>
        <p:nvPicPr>
          <p:cNvPr id="1044" name="对象 3" descr=""/>
          <p:cNvPicPr/>
          <p:nvPr/>
        </p:nvPicPr>
        <p:blipFill>
          <a:blip r:embed="rId9"/>
          <a:stretch/>
        </p:blipFill>
        <p:spPr>
          <a:xfrm>
            <a:off x="4479840" y="3338640"/>
            <a:ext cx="293760" cy="807840"/>
          </a:xfrm>
          <a:prstGeom prst="rect">
            <a:avLst/>
          </a:prstGeom>
          <a:ln w="0">
            <a:noFill/>
          </a:ln>
        </p:spPr>
      </p:pic>
      <p:pic>
        <p:nvPicPr>
          <p:cNvPr id="1045" name="对象 4" descr=""/>
          <p:cNvPicPr/>
          <p:nvPr/>
        </p:nvPicPr>
        <p:blipFill>
          <a:blip r:embed="rId10"/>
          <a:stretch/>
        </p:blipFill>
        <p:spPr>
          <a:xfrm>
            <a:off x="4875120" y="3338640"/>
            <a:ext cx="412920" cy="807840"/>
          </a:xfrm>
          <a:prstGeom prst="rect">
            <a:avLst/>
          </a:prstGeom>
          <a:ln w="0">
            <a:noFill/>
          </a:ln>
        </p:spPr>
      </p:pic>
      <p:pic>
        <p:nvPicPr>
          <p:cNvPr id="1046" name="对象 5" descr=""/>
          <p:cNvPicPr/>
          <p:nvPr/>
        </p:nvPicPr>
        <p:blipFill>
          <a:blip r:embed="rId11"/>
          <a:stretch/>
        </p:blipFill>
        <p:spPr>
          <a:xfrm>
            <a:off x="6302520" y="3338640"/>
            <a:ext cx="268200" cy="807840"/>
          </a:xfrm>
          <a:prstGeom prst="rect">
            <a:avLst/>
          </a:prstGeom>
          <a:ln w="0">
            <a:noFill/>
          </a:ln>
        </p:spPr>
      </p:pic>
      <p:sp>
        <p:nvSpPr>
          <p:cNvPr id="1047" name="矩形 7"/>
          <p:cNvSpPr/>
          <p:nvPr/>
        </p:nvSpPr>
        <p:spPr>
          <a:xfrm>
            <a:off x="2631960" y="41799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8" name="矩形 21"/>
          <p:cNvSpPr/>
          <p:nvPr/>
        </p:nvSpPr>
        <p:spPr>
          <a:xfrm>
            <a:off x="3552840" y="417672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9" name="矩形 22"/>
          <p:cNvSpPr/>
          <p:nvPr/>
        </p:nvSpPr>
        <p:spPr>
          <a:xfrm>
            <a:off x="4464000" y="4175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0" name="矩形 23"/>
          <p:cNvSpPr/>
          <p:nvPr/>
        </p:nvSpPr>
        <p:spPr>
          <a:xfrm>
            <a:off x="4896000" y="41752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1" name="矩形 24"/>
          <p:cNvSpPr/>
          <p:nvPr/>
        </p:nvSpPr>
        <p:spPr>
          <a:xfrm>
            <a:off x="6278400" y="41752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矩形 10"/>
          <p:cNvSpPr/>
          <p:nvPr/>
        </p:nvSpPr>
        <p:spPr>
          <a:xfrm>
            <a:off x="990720" y="173664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师傅做一批机器零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完成。平均每天完成这批零件的几分之几？照这样计算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能完成这批零件的几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53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54" name="圆角矩形 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55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56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57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8" name="组合 4"/>
          <p:cNvGrpSpPr/>
          <p:nvPr/>
        </p:nvGrpSpPr>
        <p:grpSpPr>
          <a:xfrm>
            <a:off x="1366920" y="3951360"/>
            <a:ext cx="6769080" cy="1365120"/>
            <a:chOff x="1366920" y="3951360"/>
            <a:chExt cx="6769080" cy="1365120"/>
          </a:xfrm>
        </p:grpSpPr>
        <p:sp>
          <p:nvSpPr>
            <p:cNvPr id="1059" name="矩形 1"/>
            <p:cNvSpPr/>
            <p:nvPr/>
          </p:nvSpPr>
          <p:spPr>
            <a:xfrm>
              <a:off x="1366920" y="4041000"/>
              <a:ext cx="676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平均每天完成这批零件的      。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天能完成这批零件的      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60" name="对象 2" descr=""/>
            <p:cNvPicPr/>
            <p:nvPr/>
          </p:nvPicPr>
          <p:blipFill>
            <a:blip r:embed="rId2"/>
            <a:stretch/>
          </p:blipFill>
          <p:spPr>
            <a:xfrm>
              <a:off x="5470200" y="3951360"/>
              <a:ext cx="414360" cy="8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对象 3" descr=""/>
            <p:cNvPicPr/>
            <p:nvPr/>
          </p:nvPicPr>
          <p:blipFill>
            <a:blip r:embed="rId3"/>
            <a:stretch/>
          </p:blipFill>
          <p:spPr>
            <a:xfrm>
              <a:off x="2698200" y="4508640"/>
              <a:ext cx="415800" cy="807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矩形 10"/>
          <p:cNvSpPr/>
          <p:nvPr/>
        </p:nvSpPr>
        <p:spPr>
          <a:xfrm>
            <a:off x="1062000" y="173664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年级一班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其中男生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男生人数占全班总人数的几分之几？女生人数占全班总人数的几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63" name="组合 6"/>
          <p:cNvGrpSpPr/>
          <p:nvPr/>
        </p:nvGrpSpPr>
        <p:grpSpPr>
          <a:xfrm>
            <a:off x="1440000" y="3624120"/>
            <a:ext cx="6678360" cy="2333880"/>
            <a:chOff x="1440000" y="3624120"/>
            <a:chExt cx="6678360" cy="2333880"/>
          </a:xfrm>
        </p:grpSpPr>
        <p:sp>
          <p:nvSpPr>
            <p:cNvPr id="1064" name="矩形 1"/>
            <p:cNvSpPr/>
            <p:nvPr/>
          </p:nvSpPr>
          <p:spPr>
            <a:xfrm>
              <a:off x="1440000" y="3624120"/>
              <a:ext cx="6678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36180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0÷4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    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(4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0)÷4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 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marL="361800" indent="-36180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男生人数占全班总人数的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，女生人数占全班总人数的        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65" name="对象 2" descr=""/>
            <p:cNvPicPr/>
            <p:nvPr/>
          </p:nvPicPr>
          <p:blipFill>
            <a:blip r:embed="rId1"/>
            <a:stretch/>
          </p:blipFill>
          <p:spPr>
            <a:xfrm>
              <a:off x="2724480" y="3665160"/>
              <a:ext cx="43812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对象 3" descr=""/>
            <p:cNvPicPr/>
            <p:nvPr/>
          </p:nvPicPr>
          <p:blipFill>
            <a:blip r:embed="rId2"/>
            <a:stretch/>
          </p:blipFill>
          <p:spPr>
            <a:xfrm>
              <a:off x="5423040" y="3649320"/>
              <a:ext cx="43956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对象 4" descr=""/>
            <p:cNvPicPr/>
            <p:nvPr/>
          </p:nvPicPr>
          <p:blipFill>
            <a:blip r:embed="rId3"/>
            <a:stretch/>
          </p:blipFill>
          <p:spPr>
            <a:xfrm>
              <a:off x="5588280" y="4421160"/>
              <a:ext cx="43812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对象 5" descr=""/>
            <p:cNvPicPr/>
            <p:nvPr/>
          </p:nvPicPr>
          <p:blipFill>
            <a:blip r:embed="rId4"/>
            <a:stretch/>
          </p:blipFill>
          <p:spPr>
            <a:xfrm>
              <a:off x="4140000" y="5149800"/>
              <a:ext cx="439560" cy="808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矩形 10"/>
          <p:cNvSpPr/>
          <p:nvPr/>
        </p:nvSpPr>
        <p:spPr>
          <a:xfrm>
            <a:off x="1062000" y="173664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华和小敏比赛速算，小华每分钟做总题数的      ，小敏每分钟做总题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他俩谁做得快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70" name="对象 1" descr=""/>
          <p:cNvPicPr/>
          <p:nvPr/>
        </p:nvPicPr>
        <p:blipFill>
          <a:blip r:embed="rId1"/>
          <a:stretch/>
        </p:blipFill>
        <p:spPr>
          <a:xfrm>
            <a:off x="7643880" y="1649520"/>
            <a:ext cx="415800" cy="806400"/>
          </a:xfrm>
          <a:prstGeom prst="rect">
            <a:avLst/>
          </a:prstGeom>
          <a:ln w="0">
            <a:noFill/>
          </a:ln>
        </p:spPr>
      </p:pic>
      <p:pic>
        <p:nvPicPr>
          <p:cNvPr id="1071" name="对象 2" descr=""/>
          <p:cNvPicPr/>
          <p:nvPr/>
        </p:nvPicPr>
        <p:blipFill>
          <a:blip r:embed="rId2"/>
          <a:stretch/>
        </p:blipFill>
        <p:spPr>
          <a:xfrm>
            <a:off x="4672080" y="2205000"/>
            <a:ext cx="415800" cy="806400"/>
          </a:xfrm>
          <a:prstGeom prst="rect">
            <a:avLst/>
          </a:prstGeom>
          <a:ln w="0">
            <a:noFill/>
          </a:ln>
        </p:spPr>
      </p:pic>
      <p:grpSp>
        <p:nvGrpSpPr>
          <p:cNvPr id="1072" name="组合 4"/>
          <p:cNvGrpSpPr/>
          <p:nvPr/>
        </p:nvGrpSpPr>
        <p:grpSpPr>
          <a:xfrm>
            <a:off x="1867680" y="3192480"/>
            <a:ext cx="4684320" cy="808200"/>
            <a:chOff x="1867680" y="3192480"/>
            <a:chExt cx="4684320" cy="808200"/>
          </a:xfrm>
        </p:grpSpPr>
        <p:pic>
          <p:nvPicPr>
            <p:cNvPr id="1073" name="对象 1" descr=""/>
            <p:cNvPicPr/>
            <p:nvPr/>
          </p:nvPicPr>
          <p:blipFill>
            <a:blip r:embed="rId3"/>
            <a:stretch/>
          </p:blipFill>
          <p:spPr>
            <a:xfrm>
              <a:off x="3571920" y="3192480"/>
              <a:ext cx="39024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对象 2" descr=""/>
            <p:cNvPicPr/>
            <p:nvPr/>
          </p:nvPicPr>
          <p:blipFill>
            <a:blip r:embed="rId4"/>
            <a:stretch/>
          </p:blipFill>
          <p:spPr>
            <a:xfrm>
              <a:off x="2876760" y="3192480"/>
              <a:ext cx="41580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矩形 3"/>
            <p:cNvSpPr/>
            <p:nvPr/>
          </p:nvSpPr>
          <p:spPr>
            <a:xfrm>
              <a:off x="1867680" y="3386520"/>
              <a:ext cx="46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因为       ＞      ，所以小华做得快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7:14:21Z</dcterms:modified>
  <cp:revision>1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